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660276"/>
        <c:axId val="24362693"/>
      </c:barChart>
      <c:catAx>
        <c:axId val="976602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62693"/>
        <c:crosses val="autoZero"/>
        <c:auto val="1"/>
        <c:lblAlgn val="ctr"/>
        <c:lblOffset val="100"/>
        <c:noMultiLvlLbl val="0"/>
      </c:catAx>
      <c:valAx>
        <c:axId val="243626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602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CF97-93E8-4BE1-89C4-243460C9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57CB-B01B-4134-9D93-C67D193B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25F8-2609-421B-AA9B-145EBB9BF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9AE4-92D6-41ED-9DB2-F58D3C1F3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BE86-0D5A-4AB1-9FE1-910D6629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C814-0FFB-4144-BC2A-FEEA692F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336D-5BF7-4917-96A0-163240D0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62B4-BD9B-4291-A08F-6177E009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2441-EECC-450D-BFA2-C8CE9449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7262-7C20-41B3-9C6D-BCFD6A9E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19B8-D733-4AE1-BDB4-8B469FF1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66C5-F5B9-4E93-B172-BD2E3062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301C6-3C24-40C9-B471-D2CAD30938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