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27982"/>
        <c:axId val="22954136"/>
      </c:barChart>
      <c:catAx>
        <c:axId val="90427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54136"/>
        <c:crosses val="autoZero"/>
        <c:auto val="1"/>
        <c:lblAlgn val="ctr"/>
        <c:lblOffset val="100"/>
        <c:noMultiLvlLbl val="0"/>
      </c:catAx>
      <c:valAx>
        <c:axId val="22954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27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DA5-906F-477A-AF66-7E015E62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380-15FC-4AB9-916A-C92467AD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126-D8C0-42F4-ACE3-32BF9E64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403-EA0D-4FE2-87CF-2A0493E2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5E2-F8E9-4D21-B611-19C523B7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D64-E56E-4D10-8CCD-4F62F169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0FC-54FA-4238-AB31-1D61F9AB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A7F-2F92-4191-B75D-325CFA08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7D8-58BA-476A-BC4E-557DE250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5AF-B9B7-4BCB-A702-256CAD2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030-6DEC-4BED-9D6E-7ACCA2BD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EDA-2369-4D86-8616-D2AD3BB3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B762D-FDFD-4D07-9C63-BC3D42398B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