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12822"/>
        <c:axId val="89026914"/>
      </c:barChart>
      <c:catAx>
        <c:axId val="54128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26914"/>
        <c:crosses val="autoZero"/>
        <c:auto val="1"/>
        <c:lblAlgn val="ctr"/>
        <c:lblOffset val="100"/>
        <c:noMultiLvlLbl val="0"/>
      </c:catAx>
      <c:valAx>
        <c:axId val="890269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28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18C0-A288-4D5A-87B4-8192E1D4E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6126-861A-4D47-9CB9-C8B36736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ECE2-2949-4547-A6F4-E37397F00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3608-CFD1-4F9C-A6F6-AA6CEA240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E123-602D-4102-814B-BE9C0EDF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9D17-965E-4DAF-B62E-61A486E6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2344-C399-4001-9374-2BA04662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3DDB-FC2B-4874-8E6B-7B0054E7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65AD-F098-4ABB-AA36-C7DE1F0C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36C0-A3A3-4AE4-A13D-2808634E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C465-5504-4816-B2B3-B985D36A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58BA-CC4B-4E66-8E19-E9104397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D6D04-D4AE-428F-9360-E6B972F724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