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633897"/>
        <c:axId val="97592697"/>
      </c:barChart>
      <c:catAx>
        <c:axId val="176338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92697"/>
        <c:crosses val="autoZero"/>
        <c:auto val="1"/>
        <c:lblAlgn val="ctr"/>
        <c:lblOffset val="100"/>
        <c:noMultiLvlLbl val="0"/>
      </c:catAx>
      <c:valAx>
        <c:axId val="975926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338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81A8-DE8E-4F30-AEA8-BC3074A91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3112-4389-43EB-95AE-546037FE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36DA-F243-4298-AA06-E174A0B8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0D8F-70E9-4C5D-A595-C44250DF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2DA3-E2E7-4668-8644-CAFE47A8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EF95-6D5B-44AE-8B72-67D0D022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323B-8CF0-4FDA-931C-ABAE6315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3EE1-3F8A-4FA1-A21D-8FE6DB70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AA2E-72A4-460D-9AB2-8FB1A0DE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A6B4-29E4-410C-9073-A239FCFB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C78F-B367-42A3-AD4A-F8203FE7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A493-7B5D-4333-95A0-98571D45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F2E36-10D8-473E-9F3D-AB102C8150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