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65558"/>
        <c:axId val="97740810"/>
      </c:barChart>
      <c:catAx>
        <c:axId val="65365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40810"/>
        <c:crosses val="autoZero"/>
        <c:auto val="1"/>
        <c:lblAlgn val="ctr"/>
        <c:lblOffset val="100"/>
        <c:noMultiLvlLbl val="0"/>
      </c:catAx>
      <c:valAx>
        <c:axId val="97740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65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8BD-5B01-454E-A80B-ECF4B633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4D6-F2CF-4885-AB7A-CA6679B3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466-4DC6-4EA3-8217-A7FF87FF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D3B-3DCB-4933-9140-4A22518E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1AF-8EF4-4877-B24E-07CA1BC0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C39-BC6F-40B0-87A7-BC60E24E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246-B386-4D95-BD8B-3A810324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869-88B6-401E-A761-9C911012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5A1-2F1C-42EB-B672-DA166E02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F73-B204-4810-B447-90D07A2F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6A0-A4BD-42DA-AB3C-963648C2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E88-6F79-4B08-A60F-2FFD0133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C9816-F580-4293-878A-531847493E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