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0109"/>
        <c:axId val="86681298"/>
      </c:barChart>
      <c:catAx>
        <c:axId val="1100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81298"/>
        <c:crosses val="autoZero"/>
        <c:auto val="1"/>
        <c:lblAlgn val="ctr"/>
        <c:lblOffset val="100"/>
        <c:noMultiLvlLbl val="0"/>
      </c:catAx>
      <c:valAx>
        <c:axId val="86681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6CA-D8E8-4921-839C-1E3D55A3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B4B-4692-49E8-8BA2-6B77B966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517-6638-477B-8EA9-C63C4365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EB9-7938-458D-9A56-590821E0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2EF-200E-43BB-8B2E-BCADB2B9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59E-C1B3-4EC8-88A9-9ACDA48B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824-283F-4D4C-A588-222FDF3D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6B8-C7D9-4728-AD0D-C01EAE6B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6A5-8EDE-41BF-9D42-CE315E83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8D1-56AA-46C0-8982-003E10FD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0BF-673B-4278-9C36-DBABC543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712-C402-47E5-8EE0-C54CC1FE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9E3DD-89C9-46A5-B129-A5E6C8863D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