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6644"/>
        <c:axId val="81135113"/>
      </c:barChart>
      <c:catAx>
        <c:axId val="29466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35113"/>
        <c:crosses val="autoZero"/>
        <c:auto val="1"/>
        <c:lblAlgn val="ctr"/>
        <c:lblOffset val="100"/>
        <c:noMultiLvlLbl val="0"/>
      </c:catAx>
      <c:valAx>
        <c:axId val="81135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66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A9D-7141-489C-BA32-E9D61D50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FDC-3602-44CA-81D3-6C828F91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CD4-6CFE-4B33-BE6D-7115142A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BDF-0141-48BB-A2AA-DBB29259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9348-1F33-4998-AD65-81C545CE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9F5-3B63-4EA8-865A-5A9157D9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427-2967-4263-80D7-8DDED698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F2C-A6E5-42F2-8FAB-42478E4B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8BB4-DCDE-4FF5-9E38-B2EF7413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393-5028-407B-BDA5-5B146600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E9E-5322-436A-807D-7F22DF6C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7692-1E3A-43C4-B935-0EEE3CEC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27984-5355-4D2B-8A35-4010D60AC5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