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61158"/>
        <c:axId val="22100706"/>
      </c:barChart>
      <c:catAx>
        <c:axId val="90161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00706"/>
        <c:crosses val="autoZero"/>
        <c:auto val="1"/>
        <c:lblAlgn val="ctr"/>
        <c:lblOffset val="100"/>
        <c:noMultiLvlLbl val="0"/>
      </c:catAx>
      <c:valAx>
        <c:axId val="22100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61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127-2A06-4BEC-B232-A6785E1B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DC7-19D7-408D-9567-59F6E4F5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705-6A15-4CC6-9B87-6390626F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2794-13B2-41E0-888A-8B8DB3C9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A68-BA8A-4DDC-8132-3207C0CD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47C6-42AD-4885-9475-B8645861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B53-5548-4025-B119-D679B7C1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151-C05B-4DA2-BAF4-A19080A0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AEA-C724-4AE1-9CCC-AEBC83C8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D5A-1A6A-400B-BB11-C630D9B7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D97D-DE3B-4661-AA11-A4594938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776B-94D1-4F18-9522-257CDF6F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2CD1F-E764-41BE-8C60-D28889357A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