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2869"/>
        <c:axId val="34587040"/>
      </c:barChart>
      <c:catAx>
        <c:axId val="3242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87040"/>
        <c:crosses val="autoZero"/>
        <c:auto val="1"/>
        <c:lblAlgn val="ctr"/>
        <c:lblOffset val="100"/>
        <c:noMultiLvlLbl val="0"/>
      </c:catAx>
      <c:valAx>
        <c:axId val="34587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2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C8C-3F91-4B60-9E9B-008EAF0F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9EE-87A3-40DE-8BB8-25A720B5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150-5B80-4A14-8B40-301911C1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2D2-8D01-429B-8FBC-06CC3D80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CE1-8038-4C75-BC31-42C011F6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FF9-9280-4593-A3E4-4DEE9E07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136-BA29-4703-B8A3-3008F81C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E52-9A1D-4818-8A05-44DFD3F9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720-7D4B-484E-9924-A7474B1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BEB-11AE-47C3-81C9-E1272EC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8F1-FFA4-46D5-BB05-4BF06A47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969-7297-4C76-8702-80959255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4A2D1-E84F-41CD-8467-0F89A6E0A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