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14450"/>
        <c:axId val="93681435"/>
      </c:barChart>
      <c:catAx>
        <c:axId val="11914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81435"/>
        <c:crosses val="autoZero"/>
        <c:auto val="1"/>
        <c:lblAlgn val="ctr"/>
        <c:lblOffset val="100"/>
        <c:noMultiLvlLbl val="0"/>
      </c:catAx>
      <c:valAx>
        <c:axId val="93681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14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270F-C058-454D-A99A-2DB23EA6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299-B8FA-4710-B37A-0E853AE1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3F9F-C1C9-45D9-BD5D-28759AE3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D48-9B97-4A66-92CC-56230806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59A-7174-4412-89C8-A7ADFA33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6AF8-EC6A-4C05-ACFB-F7A48D0D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4EA-93D1-4C17-9742-ADEF1B00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8463-619A-4159-9CA6-4E00149A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396-9928-480B-948B-1D4B14F0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9FF-6CEB-4287-8E0A-BF0D49CE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781-4490-40FD-A88C-5AE47839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D5A-80D1-4E53-AD75-736A66C8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569F3-204E-4810-8D52-3F83B83AA9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