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10185"/>
        <c:axId val="71237290"/>
      </c:barChart>
      <c:catAx>
        <c:axId val="62810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37290"/>
        <c:crosses val="autoZero"/>
        <c:auto val="1"/>
        <c:lblAlgn val="ctr"/>
        <c:lblOffset val="100"/>
        <c:noMultiLvlLbl val="0"/>
      </c:catAx>
      <c:valAx>
        <c:axId val="712372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10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E25-E5F9-496E-A288-F80FA1E9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1D0-543E-4DCF-AC9E-8A497656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62FE-11EB-4D8A-AF62-D5C96D74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854-7278-431E-BCE7-2C59D622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ADFB-811B-4662-984A-D185E16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AD9-2F13-4A30-A535-D7CC0F51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342D-2942-4275-8DB4-29C7C8FB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83C-EFA7-476C-9453-680856A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C0B-CE03-424B-8077-A987E50C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DB2-9958-4DCA-B8F6-C9CE830E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272-8CB2-45AE-B5B2-7AC2E41F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931-B17B-409B-B89F-9C8513AC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37975-76FF-4AF2-BD61-E59FC19F7F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