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06682"/>
        <c:axId val="10054882"/>
      </c:barChart>
      <c:catAx>
        <c:axId val="56106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54882"/>
        <c:crosses val="autoZero"/>
        <c:auto val="1"/>
        <c:lblAlgn val="ctr"/>
        <c:lblOffset val="100"/>
        <c:noMultiLvlLbl val="0"/>
      </c:catAx>
      <c:valAx>
        <c:axId val="10054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06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822-4FA1-4666-853D-3EB8B840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C12-7A18-44D2-B3E5-46B72114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E48-F677-48F9-85C5-C898BA40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71F-4A56-4EB6-9C7D-D975C15E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BE9-7C82-41B6-807B-B78EFE09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85E-D8EB-4886-B3C1-E02913AD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A0B-02C3-42BB-805F-82763C93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D76-A9BA-41FC-B30E-D5E8C5CB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3A7-092E-4859-893F-FEC12132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502-7A76-4DD7-A74B-95841F69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44C-665E-414C-A3B8-05AB922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734-B696-4F5D-ADF4-6F591225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3A4FD-29A9-47B5-A135-81B6023CD6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