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50664"/>
        <c:axId val="23379893"/>
      </c:barChart>
      <c:catAx>
        <c:axId val="53850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79893"/>
        <c:crosses val="autoZero"/>
        <c:auto val="1"/>
        <c:lblAlgn val="ctr"/>
        <c:lblOffset val="100"/>
        <c:noMultiLvlLbl val="0"/>
      </c:catAx>
      <c:valAx>
        <c:axId val="23379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50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1BA-C79E-4374-A2E2-841B94E9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50A-7D21-4788-86D2-8E0482EC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CB9-784B-4A1C-8883-1D4F2EFA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CCF-ACB6-4F90-B9F7-38549D9B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471-3EDC-4D66-B03E-CB04929D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6D5-8A91-421D-88B8-3B00AA89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033-8754-40BD-A828-82DFF668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CCB-4C2F-44AD-9708-65126AD8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116-876B-46B3-A8A3-7D14E70A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F10-7640-48A7-B292-33C54841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DE4-CD56-4B51-B7A7-36FBF98D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44C-5B74-427D-AAAF-432635D8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BF5CC-20AA-43F4-A5D7-F678E75431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