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85456"/>
        <c:axId val="92732640"/>
      </c:barChart>
      <c:catAx>
        <c:axId val="52385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32640"/>
        <c:crosses val="autoZero"/>
        <c:auto val="1"/>
        <c:lblAlgn val="ctr"/>
        <c:lblOffset val="100"/>
        <c:noMultiLvlLbl val="0"/>
      </c:catAx>
      <c:valAx>
        <c:axId val="92732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85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5F0-3A81-479A-8013-565AB7AF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EB3-9AE9-4C77-AF6E-1F842098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B08-61DD-4C33-AF82-D46FF8E1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88F-62DC-4C4A-A867-B2166422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B0B-9795-4AAF-8123-6DBFF624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ADB-3E14-40BC-A520-8D54501E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9BC-A5DA-422A-BBAE-132F7648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08E-3CFA-4256-9826-3A4FE5A2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CC9-51AA-4AF9-AC00-F14A858F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B48-3E43-41C2-98DD-B0823A1C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161-B7E2-4860-9BA4-834D76BD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66F-B67C-4ACF-9B84-9DC9595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C8BD8-E423-4B3E-A3C6-04B90EA2FD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