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71818"/>
        <c:axId val="78513665"/>
      </c:barChart>
      <c:catAx>
        <c:axId val="89771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13665"/>
        <c:crosses val="autoZero"/>
        <c:auto val="1"/>
        <c:lblAlgn val="ctr"/>
        <c:lblOffset val="100"/>
        <c:noMultiLvlLbl val="0"/>
      </c:catAx>
      <c:valAx>
        <c:axId val="78513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71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20F-87AD-43FE-A6ED-4EDC0650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9CA-EB3C-494B-AE31-2A1FC4B1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E41-B4A2-45D7-9871-6354822C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AB4-2707-4D82-B9C8-E2C18288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142-8227-41FF-9AC6-BF1DA908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A6C-3EA5-48E1-AAE9-3B1F067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357-3BFE-4933-A323-A5D626DB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6EB-C95A-4FC6-80CD-F851309B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77E-7DFB-41F6-A70A-69D0A47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525-ABB1-4CAC-AC4C-668645FB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AD9-7824-4EB9-91C4-9E3325D6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333-22EB-4C86-B266-4A2378C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DF0E9-A6B0-4993-B2CA-3F8430630A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