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94024"/>
        <c:axId val="31216759"/>
      </c:barChart>
      <c:catAx>
        <c:axId val="64094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16759"/>
        <c:crosses val="autoZero"/>
        <c:auto val="1"/>
        <c:lblAlgn val="ctr"/>
        <c:lblOffset val="100"/>
        <c:noMultiLvlLbl val="0"/>
      </c:catAx>
      <c:valAx>
        <c:axId val="31216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94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D11-D5EC-469D-8901-29A3510C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AF6-B50C-45AA-A1D7-0920272A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870-D027-4CD0-B28E-CF562C97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7AB-9AE7-4871-9FA0-EB4E003C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9BF-C13C-49CF-81F5-A8183184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9B9-9D14-41CA-82DF-0CC7AE1F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617-38AF-4392-BCF0-E2C9C0EB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AB6-6317-488C-8211-A45ADBE8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715-7499-4C07-8F67-2F5B1DCD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85F-E3C5-47C8-89C6-48BD4571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D9D-CB9C-4EF6-99DD-34923172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7AA-A4BA-4E12-87AC-CB24415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F7C62-CE66-4EEF-9D56-197290C11D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