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603345"/>
        <c:axId val="20180793"/>
      </c:barChart>
      <c:catAx>
        <c:axId val="996033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80793"/>
        <c:crosses val="autoZero"/>
        <c:auto val="1"/>
        <c:lblAlgn val="ctr"/>
        <c:lblOffset val="100"/>
        <c:noMultiLvlLbl val="0"/>
      </c:catAx>
      <c:valAx>
        <c:axId val="201807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033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A5C1-80B0-4067-9D1C-90B37FC24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6030-A19A-47D1-9018-8698F0FB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21E5-78E7-45CA-89D5-D4DDDAD6E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C08D-2E0B-4136-9744-6CC737B8B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D2F3-CCBF-4982-98D9-11666E98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300B-0987-45C8-AC13-13C7AF8E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A8BF-0BDE-40B4-A2DE-935ACFDB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0D40-5ED7-4A6D-874B-DB99D68C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7E44-D280-43C6-8FB4-2C1F4275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43C8-D7AC-462A-BC84-FA98EE12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9FF2-359C-4F1E-8CFE-679C1FEA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9A45-4848-4C68-92D2-4B23C94C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77A76-DA50-4CF7-9C10-920A0FFE70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