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45940"/>
        <c:axId val="3091462"/>
      </c:barChart>
      <c:catAx>
        <c:axId val="11745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462"/>
        <c:crosses val="autoZero"/>
        <c:auto val="1"/>
        <c:lblAlgn val="ctr"/>
        <c:lblOffset val="100"/>
        <c:noMultiLvlLbl val="0"/>
      </c:catAx>
      <c:valAx>
        <c:axId val="3091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45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A66-3FEA-4EF5-B45A-D6E23F69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2DB-FC64-46D4-8EBF-5074EAFB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20B-B228-4AF9-A91D-E1D0ADDD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E5D-5BAA-4A55-8825-D2968168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BCF-5D95-4EB7-B493-3752FDB9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FB4-90BB-48ED-8F83-DBEC3C4D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CD1-C634-441E-93B5-C9C3CF88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2F0-745F-4CA7-994F-A09FE478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62E-46D0-4FDD-96C4-19BEB03D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97B-5BF3-42C4-9D25-A6BCC35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AA1-6C25-4AF0-8006-79D3CFFF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2D5-7DFD-458D-8763-14BEBCF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AF8DD-70BA-477C-8E0C-95D94331C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