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53336"/>
        <c:axId val="88420319"/>
      </c:barChart>
      <c:catAx>
        <c:axId val="12753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20319"/>
        <c:crosses val="autoZero"/>
        <c:auto val="1"/>
        <c:lblAlgn val="ctr"/>
        <c:lblOffset val="100"/>
        <c:noMultiLvlLbl val="0"/>
      </c:catAx>
      <c:valAx>
        <c:axId val="88420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53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F8A-7EC3-497C-A010-A8A0AA97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BEE-D4BA-4B9B-93B1-2DC9C36D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A3D-5697-451D-AD2C-3CCB3E00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501-EFDC-4ABC-B39C-5068A3E9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35D-EF5B-438F-A53B-55BE188F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857-6AAF-4004-A096-FEFCF3C0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BA8-FFB0-466F-B443-D66DE5B3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7CB-8D34-49B4-869C-B409FA8D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011-2522-4E15-BCDC-24AB5FC9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034-BB3F-45A5-9610-C708344B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FFF-2BB4-4393-8485-74C5B5E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9CE-5EA2-41BB-BDB2-6688DF8B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A9FFD-89C0-4B4A-9C16-AB55B5BA5E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