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782096"/>
        <c:axId val="25947682"/>
      </c:barChart>
      <c:catAx>
        <c:axId val="237820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47682"/>
        <c:crosses val="autoZero"/>
        <c:auto val="1"/>
        <c:lblAlgn val="ctr"/>
        <c:lblOffset val="100"/>
        <c:noMultiLvlLbl val="0"/>
      </c:catAx>
      <c:valAx>
        <c:axId val="259476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820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0C33-8825-4ECA-83BA-ACF03DAA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E3AC-75F3-4D71-BA88-31B1ECE1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2EE0-9155-47A5-93BA-B4689CE26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0148-C375-4408-919D-8A2D9387E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B740-ACDA-45F5-A589-BD6A38E8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F8A7-7124-411B-A9A4-EBE720A6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BB35-0C52-4A9C-AFE7-BBE0A1DD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57B1-2889-4A7D-93B3-C1CC713F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9B1C-DF2A-4492-A3FB-A0F54C9D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1C42-38FA-4237-88F1-89B2C85D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5993-815A-49EA-B8E5-9DF6A0E8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B805-18A9-4038-8163-FA86B283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1275E-56CA-479B-AF7F-B728658336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