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51714"/>
        <c:axId val="44278377"/>
      </c:barChart>
      <c:catAx>
        <c:axId val="39151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78377"/>
        <c:crosses val="autoZero"/>
        <c:auto val="1"/>
        <c:lblAlgn val="ctr"/>
        <c:lblOffset val="100"/>
        <c:noMultiLvlLbl val="0"/>
      </c:catAx>
      <c:valAx>
        <c:axId val="44278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51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56E-63A1-4436-B33C-2EEBFF93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34B-F62B-481C-A7A4-A7E79A00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5A0-192A-4A5B-AF92-06C09F93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80B-C10A-4B22-AB58-F24B4EC3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FE3-9AFB-4509-9CA7-E0EA9B2F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CAC-48BD-4E75-A2C6-3C2CCAC4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8C7-C553-4EA2-8EBC-F45714AB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90D-D16A-45E2-8502-79C04ADB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3EA-E9DF-4F78-A961-2A0F32E2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580-C8B7-4E09-A00A-8877A4D6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82B-7863-4630-A0D8-C0731147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B5F-B636-4B5B-A472-B6DD65AC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326D4-3A93-4D6A-B15D-E7C9571BA2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