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71182"/>
        <c:axId val="70861457"/>
      </c:barChart>
      <c:catAx>
        <c:axId val="57971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61457"/>
        <c:crosses val="autoZero"/>
        <c:auto val="1"/>
        <c:lblAlgn val="ctr"/>
        <c:lblOffset val="100"/>
        <c:noMultiLvlLbl val="0"/>
      </c:catAx>
      <c:valAx>
        <c:axId val="70861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71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695-B71F-4EFC-BD20-6DC637F2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5F9-DB58-4308-A03A-67EE4A15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2F95-89C8-4DF1-906E-D3F3D55D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AE5-2BD1-4D70-9989-D73E4A05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AF3-4D0A-43FD-894B-E6569EA4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35D-8693-4D4E-96B1-EBB327F4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A10-7D10-4FCE-B6F1-C4E72EC9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CEB-D118-42C9-8566-98EDF9E2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908-4786-4EAC-8489-1CDD79A2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D26-D1A4-4C53-A82A-EADE79D4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9A0-7F25-40D8-AD34-7A8CFDE7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9B1-CEC7-4B1E-9BD1-C0C17DC6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91B82-A925-45FC-B663-5109F7D4AB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