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26280"/>
        <c:axId val="71221514"/>
      </c:barChart>
      <c:catAx>
        <c:axId val="56726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21514"/>
        <c:crosses val="autoZero"/>
        <c:auto val="1"/>
        <c:lblAlgn val="ctr"/>
        <c:lblOffset val="100"/>
        <c:noMultiLvlLbl val="0"/>
      </c:catAx>
      <c:valAx>
        <c:axId val="71221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26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884-5716-4933-B8BF-E9BAD585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9EE-48F8-4501-8DAB-08C2D18E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FC5-AAF2-4095-B66D-BB33B015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AA2-6B96-41CC-9FFD-707C7A56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609-5ABB-4C4A-A266-56D5B16E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4CF-2F38-4E4C-AA57-AC53412E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E52-BB7D-4B61-A5AE-3FA9DA2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3B4-3B82-4816-9E35-3AFBFCF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9F1-08F9-4D3B-96C0-DE037058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6CE-812F-4F43-AC38-74F5E3A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057-030E-496E-BB3D-4F136AC3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541-11F9-43AF-AE9B-A168726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D3149-494A-49EC-B443-793A0A6221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