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67707"/>
        <c:axId val="45828162"/>
      </c:barChart>
      <c:catAx>
        <c:axId val="91867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28162"/>
        <c:crosses val="autoZero"/>
        <c:auto val="1"/>
        <c:lblAlgn val="ctr"/>
        <c:lblOffset val="100"/>
        <c:noMultiLvlLbl val="0"/>
      </c:catAx>
      <c:valAx>
        <c:axId val="45828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67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ABB-7CB0-4955-ACED-222AD137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390-58EA-4C5E-BF39-41479A95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30F-5E6A-4A90-857F-82991771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CF8-9B85-4AB4-9819-D5732269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888-DD8A-44C8-82F2-D5118514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76A-C09A-498A-9C90-5D870D70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3EF-75D2-4DD2-9139-000EED93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A17-559D-4E6B-A9E1-CBE1D5B8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C5A-BFEE-4B1B-A719-33EA3F19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2C9-D89C-4FCE-9BB5-4259A15F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F3B-8FBA-4E40-A8A0-2331E505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B4C-F6FA-48AA-8654-01D5A5D0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BDAC3-A1F0-46F2-BCE3-E7C513F9F0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