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78973"/>
        <c:axId val="9475870"/>
      </c:barChart>
      <c:catAx>
        <c:axId val="53578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5870"/>
        <c:crosses val="autoZero"/>
        <c:auto val="1"/>
        <c:lblAlgn val="ctr"/>
        <c:lblOffset val="100"/>
        <c:noMultiLvlLbl val="0"/>
      </c:catAx>
      <c:valAx>
        <c:axId val="9475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78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C46-DA4A-4CF5-9A59-C55CAB4C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45D-3CD4-4AEE-BF89-7677094B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6DF-AE72-4852-AE36-3AFA35E0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9CE-7CE4-46FF-BF5B-768B7EF0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EEE-F98E-4962-807E-2B5168A0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A4B-5630-4639-BCC9-C52CF6D4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2F0-48DA-46F4-B914-BA10E0A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284-F772-4ADF-A764-466086FE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799-48DB-44D1-BA41-7FE6392F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E8A-58FC-47DC-93CD-8EAAFF4C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9C1-5FAF-4DEB-B762-FE13F5F1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EF5-71AD-4209-8D41-465E96A6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B7C94-1641-4DAA-B8E9-69BF9CD1E9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