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58193"/>
        <c:axId val="20450729"/>
      </c:barChart>
      <c:catAx>
        <c:axId val="42958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50729"/>
        <c:crosses val="autoZero"/>
        <c:auto val="1"/>
        <c:lblAlgn val="ctr"/>
        <c:lblOffset val="100"/>
        <c:noMultiLvlLbl val="0"/>
      </c:catAx>
      <c:valAx>
        <c:axId val="20450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58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6CD-F6AE-4123-A161-BA1AD280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80D-8492-44B1-9DA4-DD2F7C1D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197-97C3-435B-8E6B-1A9994CD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193-9CA5-4D49-8C70-A94CB073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56F-125D-418C-9093-1B6068D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5B2-F891-4BDD-8EE1-19E2D538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F18-A81D-4B11-84B1-B7A5E951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897-3DAF-40B0-AF47-09BDE50A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9AC-F209-4931-9AF1-0303281B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C28-3640-44AF-B6EE-1172BC03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59E-4846-49D8-9F05-548221BA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7F0-61DE-4F83-B482-158A605E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5F8C9-09CB-4935-A1CB-912FF7E8F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