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8157"/>
        <c:axId val="2536685"/>
      </c:barChart>
      <c:catAx>
        <c:axId val="33588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685"/>
        <c:crosses val="autoZero"/>
        <c:auto val="1"/>
        <c:lblAlgn val="ctr"/>
        <c:lblOffset val="100"/>
        <c:noMultiLvlLbl val="0"/>
      </c:catAx>
      <c:valAx>
        <c:axId val="2536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8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AE9-D2C6-4757-ACA1-3903D587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1F9-3E6F-463E-A371-77EF5D5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3D5-6037-46BE-8500-B7588A6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18B-A353-4CA6-9E39-A2F136A9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A75-67B4-4645-9332-9D98A8D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E9C-9CC2-48B2-AC0B-0907BF0D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0CE-86FA-46CA-A6B0-72BDD0D4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186-F36F-4C9A-BDF8-B1009FB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677-B9EA-430D-B152-2CC83E5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4A9-E7A4-4457-9008-5C1C09B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3F9-6300-4F60-8E10-CF1A441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850-203A-408B-B846-82C12B5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A084-18D2-4F37-A3DF-048547E3CE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