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364101"/>
        <c:axId val="16604621"/>
      </c:barChart>
      <c:catAx>
        <c:axId val="463641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604621"/>
        <c:crosses val="autoZero"/>
        <c:auto val="1"/>
        <c:lblAlgn val="ctr"/>
        <c:lblOffset val="100"/>
        <c:noMultiLvlLbl val="0"/>
      </c:catAx>
      <c:valAx>
        <c:axId val="166046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3641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992A-074A-41B4-AB3F-076E2FCBC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CA7A-60F5-48FD-B97C-71EA6FE98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615F-375B-43E0-9A1B-0CFB0B4A3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3042-9B66-4D55-8133-BEFF98C17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11DA-C8D1-4FBE-B250-469E5A4D6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A1A2-F72F-47C0-8335-A55EA9E93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E21A-F0E0-4A15-AA89-1867C3743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6848-ADD8-42A4-952B-73A653BCA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7F66-47D0-45C2-9751-77B993427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D586-B7F6-4810-B5DF-9A818DF1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5492-430D-4594-9664-39DE7471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86C9-E573-4CDC-9ECC-9193B3BD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EF4432-91EE-4FD3-B255-278838AB1C6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