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47495"/>
        <c:axId val="5767968"/>
      </c:barChart>
      <c:catAx>
        <c:axId val="72347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7968"/>
        <c:crosses val="autoZero"/>
        <c:auto val="1"/>
        <c:lblAlgn val="ctr"/>
        <c:lblOffset val="100"/>
        <c:noMultiLvlLbl val="0"/>
      </c:catAx>
      <c:valAx>
        <c:axId val="5767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47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6BA-AACB-4CBA-BE2E-936CCDE3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86E-2E94-4B2A-BEFD-36345972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BD8-DC2B-453E-A8D3-968BF163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920-A067-4BF3-9B74-945C8ACC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BC0-EFD6-435B-B4A7-5A473133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514-A9FE-4A30-9D3A-F94ED136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F37-5B06-47E2-B6C2-45AC20B5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6C1-7DE0-49B4-AEC6-A118E0CA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AB7-EB82-4FE0-B744-2073196A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A47-B6C7-4E87-A0A0-099CE36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3FF-59AE-4358-8EF5-CC78ECC5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8F9-1C33-4FBE-A86E-622876E7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55A7C-9228-4645-B424-F9FBBC5C9A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