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00445"/>
        <c:axId val="53445946"/>
      </c:barChart>
      <c:catAx>
        <c:axId val="38900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45946"/>
        <c:crosses val="autoZero"/>
        <c:auto val="1"/>
        <c:lblAlgn val="ctr"/>
        <c:lblOffset val="100"/>
        <c:noMultiLvlLbl val="0"/>
      </c:catAx>
      <c:valAx>
        <c:axId val="53445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00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1F0-D96F-4BBE-9333-D5C8E28B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132-6C39-44C8-A7DA-4639D7B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FF5-52E9-4F23-9D5B-A5551A7F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F91-AA0F-45B6-A9A1-54003D00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C73-1129-4EBD-9326-19E7C5C1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DE5-0AE1-4831-AB42-C6D1F11A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A78-5281-420A-B3C1-C89B68C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802-7327-4452-A8B1-12D19CDD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B02-47A0-41A3-915C-F93023C9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DE8-24B3-456A-B24C-91280EA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CFC-2D53-4531-A551-96FA29E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256-D75C-4919-B139-A469265D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45801-B087-46F6-BC9A-761E0EA0B7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