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80289"/>
        <c:axId val="29674891"/>
      </c:barChart>
      <c:catAx>
        <c:axId val="63080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74891"/>
        <c:crosses val="autoZero"/>
        <c:auto val="1"/>
        <c:lblAlgn val="ctr"/>
        <c:lblOffset val="100"/>
        <c:noMultiLvlLbl val="0"/>
      </c:catAx>
      <c:valAx>
        <c:axId val="29674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80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0F0-B7CD-4410-B983-D3178623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549-0FFC-4F8F-B0FD-907D5027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B68-3B50-4564-93D2-A2316DCD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5107-ABDD-438D-9CBC-4769F000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4CD-96B2-46D8-B49E-ADA7E64E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38E-4B6A-4668-BE7F-7DDE6617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29B2-923B-4322-B522-D68F545C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0C23-242A-420C-B691-F3C14E2C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A2A3-F95C-4623-9EF3-FEF13D0E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E71-B319-4DE6-9819-9E398594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643-4965-4B5C-94CD-520CDC85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5FFE-9963-4068-A782-5D2E0CF1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C6B43-CB07-41B5-B8BC-6191EE6B62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