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07601"/>
        <c:axId val="19246304"/>
      </c:barChart>
      <c:catAx>
        <c:axId val="88076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46304"/>
        <c:crosses val="autoZero"/>
        <c:auto val="1"/>
        <c:lblAlgn val="ctr"/>
        <c:lblOffset val="100"/>
        <c:noMultiLvlLbl val="0"/>
      </c:catAx>
      <c:valAx>
        <c:axId val="19246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076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BDF-63B9-44E4-839B-C5FF5B7E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45F0-3A4E-4DB9-AF30-4917F25B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FB2B-5D8D-4C66-9749-62D651D5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9C1-22BC-484A-A180-F7C0C2FB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9EA-A754-428F-84E2-D1553D92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58D-4B8A-42EF-8577-AF248DC7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1E0-3446-4A64-9EF9-BF29DA0A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716-D751-4CA4-9898-10D0A128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BCC-D376-44F0-9A94-5A925E55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11CE-CB21-4E97-8B2B-64355D9E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45E-D9F0-4081-80E1-F7D12410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929-3ED0-4A04-8DBF-A1BE075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FBB9E-2A36-4613-88C5-C9D653B8C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