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71795"/>
        <c:axId val="86323136"/>
      </c:barChart>
      <c:catAx>
        <c:axId val="60671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3136"/>
        <c:crosses val="autoZero"/>
        <c:auto val="1"/>
        <c:lblAlgn val="ctr"/>
        <c:lblOffset val="100"/>
        <c:noMultiLvlLbl val="0"/>
      </c:catAx>
      <c:valAx>
        <c:axId val="86323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71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28B-E00A-4705-AC7C-ECDDF5C3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736-972B-47A0-8A45-3933678D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0C7D-920A-4B23-82C1-CE565905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AC2-4A68-4399-97F1-9CB24287C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4DE7-9C1E-4987-80D4-7239F15A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156-3600-4A26-BFD5-48DF4F0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75-D745-402E-95D1-E1366922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DED-D12B-415A-970F-4A489F1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2A1-1904-405C-8168-35E4B223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7242-35B9-47C8-9827-8F74DE30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5D3-F46D-4ACC-AF6F-3F810DD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4C00-2EBF-492C-87F9-03A48CE5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40CA8-1675-4A6C-A61F-37679AD65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