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5117720"/>
        <c:axId val="47210381"/>
      </c:barChart>
      <c:catAx>
        <c:axId val="4511772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210381"/>
        <c:crosses val="autoZero"/>
        <c:auto val="1"/>
        <c:lblAlgn val="ctr"/>
        <c:lblOffset val="100"/>
        <c:noMultiLvlLbl val="0"/>
      </c:catAx>
      <c:valAx>
        <c:axId val="4721038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11772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64C7-F35A-46BD-8A02-4E9CA26DC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E5D6-BE57-4438-BA87-01B1DD274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4FCC-DE4C-478B-8E98-CBF8A16A0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90B3-DC4B-4F0F-AC9C-2BDEBD1C2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632B-A60C-4E72-9ABC-19DD71F3D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A3E1-E40E-40F9-98F1-79515C573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3EE1-CE2C-495C-839D-6011D9E87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C225-1D97-41C9-8499-6D807F94D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89DB-BF68-4D3F-A21E-B0D5C1126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ADFF-41F8-4C47-A31F-3FF1A2C74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14EE-C5D6-4FFF-BE7F-117C08CF4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9BE4-F75F-4038-8D3E-10BA2CBBA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D917DD-67BB-424F-A24F-9D931C7333F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