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166572"/>
        <c:axId val="5605893"/>
      </c:barChart>
      <c:catAx>
        <c:axId val="471665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05893"/>
        <c:crosses val="autoZero"/>
        <c:auto val="1"/>
        <c:lblAlgn val="ctr"/>
        <c:lblOffset val="100"/>
        <c:noMultiLvlLbl val="0"/>
      </c:catAx>
      <c:valAx>
        <c:axId val="56058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1665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CA50-CBBE-46F0-88CD-1D630AED6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86E3-0D7B-41D2-99D7-5C3F8B7AD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B24D-0452-4F81-AABD-34E9BD516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6774-049E-4FA6-A39F-37197E1AA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C2A0-A835-4758-828F-B056D2072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2176-C72E-4B1F-87EE-861FAE3C6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72BE-9579-4293-8477-77A92FAD1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ED87-2ADF-4957-B900-BE95833F6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C9B7-BA3B-47B1-8BC1-37F820D5C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34C1-F0C5-48B8-A46A-DD2A7AE7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2727-950E-4DCE-AFA5-21EF788C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4A9A-2D91-4D10-86DB-E81B4AB2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80A456-FF20-4F48-A975-5574AF39B61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