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3408"/>
        <c:axId val="83672711"/>
      </c:barChart>
      <c:catAx>
        <c:axId val="2793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72711"/>
        <c:crosses val="autoZero"/>
        <c:auto val="1"/>
        <c:lblAlgn val="ctr"/>
        <c:lblOffset val="100"/>
        <c:noMultiLvlLbl val="0"/>
      </c:catAx>
      <c:valAx>
        <c:axId val="83672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3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8AB-6ECC-4171-B804-56B6ED1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6B-9D79-4BDB-A19F-8D75944D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F2C-C2D3-42AC-9ECF-DAD5D99B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B8D-9EF2-4DB5-95D3-A5C98460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DCC-7EEF-4584-9C80-C3DCABC6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933-4709-44B9-A564-48CD361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C52-9CF0-468D-A4B6-2BDE4471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FC3-2AC6-499F-B3EE-13D71FDD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21E-7117-433D-A5CA-3BCCABA6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B76-2685-45E0-A616-54ECFBE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978-51D4-46EF-A921-8AD11BFB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D99-61AD-48B2-9097-0E83BC6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76533-1A95-44C4-865F-1A3A6562E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