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009913"/>
        <c:axId val="9401634"/>
      </c:barChart>
      <c:catAx>
        <c:axId val="350099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1634"/>
        <c:crosses val="autoZero"/>
        <c:auto val="1"/>
        <c:lblAlgn val="ctr"/>
        <c:lblOffset val="100"/>
        <c:noMultiLvlLbl val="0"/>
      </c:catAx>
      <c:valAx>
        <c:axId val="94016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099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2B3E-A318-4296-90BD-32D766AC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BF60-2F9B-4A35-9D84-664E263D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8F6D-685D-4876-A952-0B63234E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CE44-11EF-4A3F-B604-0C639FC4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E784-8A25-4E18-9D39-5E7727A7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1E3B-AE5B-4CDF-AE6E-35A67874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40EC-6C95-450B-9AA7-439FFA11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D7DB-C4EA-4003-A612-C2872E45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91DA-C310-401A-BE11-208C1A54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A403-761F-464D-A405-44A89C69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DC88-AAED-49CD-BF18-4F6383A2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DC4E-AC89-4E24-9330-C0432B25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B48B2-CA12-43BF-AAF3-C0602BB0AB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