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40292"/>
        <c:axId val="80887426"/>
      </c:barChart>
      <c:catAx>
        <c:axId val="45840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7426"/>
        <c:crosses val="autoZero"/>
        <c:auto val="1"/>
        <c:lblAlgn val="ctr"/>
        <c:lblOffset val="100"/>
        <c:noMultiLvlLbl val="0"/>
      </c:catAx>
      <c:valAx>
        <c:axId val="80887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40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E16-2401-440A-8D25-5A0703B6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59E-3326-491E-B1BC-8B2D6BB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024-7D48-4748-8C99-1AE07E9E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00B-7706-4EB9-9F56-F4853633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B56-3E70-4CC6-9F97-E0804774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BA2-FDC6-437F-AED8-B9BA6809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10D-161B-4AEB-8C04-0F4CC7B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53C-AF08-41B0-8F5D-5B0F8FF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94D-DBC5-417A-99AF-3C61053E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FB0-10CB-4AD7-A9E6-AD58FBC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141-A63F-44DE-8DA0-834D428A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35E-DC7B-4EA9-A509-04E24718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D6EB-98E5-466F-A67F-F66A72B09C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