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84284"/>
        <c:axId val="20294714"/>
      </c:barChart>
      <c:catAx>
        <c:axId val="53842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94714"/>
        <c:crosses val="autoZero"/>
        <c:auto val="1"/>
        <c:lblAlgn val="ctr"/>
        <c:lblOffset val="100"/>
        <c:noMultiLvlLbl val="0"/>
      </c:catAx>
      <c:valAx>
        <c:axId val="202947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42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9229-B89F-415B-945D-5FAE8D82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D6B4-9E1D-43C2-BE69-626B548C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F48F-6E38-4675-A848-E786F587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8D04-B39C-4FBE-B1D1-CA09C666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14D3-1021-4E28-A6E4-AD5E8791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E8D6-CC57-47E3-B04C-154FF85F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F1BB-B891-41CD-B4DD-68C5968A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D849-759A-4502-954C-3955931D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34F-3CB9-477F-8C7B-A12FA61F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71F1-173D-40E0-ACFE-2B92F58B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03A8-F6D3-427F-806B-3188F538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B83B-F951-4898-BF9F-E08450DA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BE8E3-E8DF-4F0B-AA9F-FDDA6B922F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