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48343"/>
        <c:axId val="24152818"/>
      </c:barChart>
      <c:catAx>
        <c:axId val="18548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52818"/>
        <c:crosses val="autoZero"/>
        <c:auto val="1"/>
        <c:lblAlgn val="ctr"/>
        <c:lblOffset val="100"/>
        <c:noMultiLvlLbl val="0"/>
      </c:catAx>
      <c:valAx>
        <c:axId val="24152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48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709-2801-4639-B6D3-05B9705F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D70-882F-4BA4-AB17-0DC1C38D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A82-74C6-4D09-9AB6-A0EF1127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71D-A221-41DD-BAE3-754A8132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E1E-28BF-4BEC-9D94-E5AA08BC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036-35D9-4968-823E-DD959BCC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36E-83C8-4A4D-9B2D-2E7D6CDF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A1E-9991-4EC7-8BCF-C7835381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542-498A-4D91-BC77-F66D6F5E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F6E-23B7-47AB-BED2-712C3A4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F0F-DD34-4F6C-A7D8-749C1FC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56D-D6A8-4FDC-95AF-B5CD6965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C3FEF-A963-445A-A931-BF05724CEC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