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89966"/>
        <c:axId val="12988390"/>
      </c:barChart>
      <c:catAx>
        <c:axId val="44489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88390"/>
        <c:crosses val="autoZero"/>
        <c:auto val="1"/>
        <c:lblAlgn val="ctr"/>
        <c:lblOffset val="100"/>
        <c:noMultiLvlLbl val="0"/>
      </c:catAx>
      <c:valAx>
        <c:axId val="12988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89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94A-0967-4742-89C2-F1C83AFC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8DD-5626-407D-A66F-E7E76D9A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7FE-1025-43CD-87F6-9CA1DBD2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6EB-FFD8-4B75-B2A3-4383C184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411-2154-4F06-8900-740BB779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AB1-50C8-412B-AEDB-AEED08B9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0EF-5C56-4CD0-B42A-59E69694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9F2-2A27-4C3C-B9AF-FEE85D42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102-0BB6-4F51-8668-4AE60A40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82C-205B-42E9-91EC-4832CE0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32F-B907-4C18-9085-455D424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B9B-A69C-428C-A992-CCB148B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29789-6D02-48C9-81B3-C89EABAFEA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