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42783"/>
        <c:axId val="15576631"/>
      </c:barChart>
      <c:catAx>
        <c:axId val="94542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76631"/>
        <c:crosses val="autoZero"/>
        <c:auto val="1"/>
        <c:lblAlgn val="ctr"/>
        <c:lblOffset val="100"/>
        <c:noMultiLvlLbl val="0"/>
      </c:catAx>
      <c:valAx>
        <c:axId val="155766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42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9E3-9725-458E-88C4-445C929C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9C2-E854-42AA-AA30-BF274322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CED-3061-4830-9A37-FE6FD8CB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187E-DA71-4533-9710-435D16A5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396-60A9-402E-912B-9B087EC5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680D-3290-41D5-B420-DC23A3C0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464-C5CC-4EF2-9F33-A97750C1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91D7-B8C6-4F53-881E-562C0C6C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B73E-1883-4490-9878-23F54FD8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815F-987E-43BD-AA12-6EF1E185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48B6-917F-48F2-A118-5E79B999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46A-713C-4B5A-A7D4-27B3FB3C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30CED-40E5-4945-8196-B70783A27D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