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45682"/>
        <c:axId val="80072415"/>
      </c:barChart>
      <c:catAx>
        <c:axId val="57845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72415"/>
        <c:crosses val="autoZero"/>
        <c:auto val="1"/>
        <c:lblAlgn val="ctr"/>
        <c:lblOffset val="100"/>
        <c:noMultiLvlLbl val="0"/>
      </c:catAx>
      <c:valAx>
        <c:axId val="80072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45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8E6-4203-497B-801F-06B0AE8A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FA0-38C2-4F78-B07F-A7181266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9E6-057F-4CFE-9A0C-16BF50D0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6FF-E9F7-4826-ADBF-C26953A1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BAC-529E-4DC9-892D-D82C637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F49-D649-428B-BD7D-0289018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BCE-E656-4043-B654-83D6241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3F5-36AE-45D9-8ED4-DDB59D65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E1F-BA18-4BFA-A598-3ADD0B3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B4B-C5DB-4ABD-ABD7-35D6A75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AD1-9C96-4FC1-AFEF-B51C51F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D1D-051C-470E-9A89-4E7D9FF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9A701-AE72-4FE2-AFAA-F199AFC76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