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73265"/>
        <c:axId val="53453364"/>
      </c:barChart>
      <c:catAx>
        <c:axId val="44073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53364"/>
        <c:crosses val="autoZero"/>
        <c:auto val="1"/>
        <c:lblAlgn val="ctr"/>
        <c:lblOffset val="100"/>
        <c:noMultiLvlLbl val="0"/>
      </c:catAx>
      <c:valAx>
        <c:axId val="53453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73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E50-8E17-483E-B806-14ECD2C6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EF6-EE49-4843-AB3F-F935418C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CD3-D37B-4020-99DA-08DD739B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1CC-7D73-4C9B-9947-159A3D1A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BB7-B9DC-441C-8B2F-7A5AAD2B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1C9-F4FF-4AA2-AF1C-B3799AF0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00D-939E-4209-94F3-212BED7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7B7-A5A8-4B13-A27F-A416D9BD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2C4-E50C-4184-B214-485E1FE8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AA0-F675-45EA-831E-C8332BE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F84-AD57-4318-B24A-AE5BE4F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937-E944-4FBB-AAB3-6F4E3DC8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14689-8C00-4196-814B-6F8872A388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