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788131"/>
        <c:axId val="85424561"/>
      </c:barChart>
      <c:catAx>
        <c:axId val="937881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424561"/>
        <c:crosses val="autoZero"/>
        <c:auto val="1"/>
        <c:lblAlgn val="ctr"/>
        <c:lblOffset val="100"/>
        <c:noMultiLvlLbl val="0"/>
      </c:catAx>
      <c:valAx>
        <c:axId val="854245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7881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8245-0BBC-4020-90FD-279A16E45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B7DC-B372-4D97-A21A-55222AC4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DA1B-4E60-4337-9CEA-2ADF58023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68A9-24DF-431D-86EC-3081D3D4D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BE13-2AF6-4BB9-A53E-3C379470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9464-CEE1-4BE0-B0F3-CB57BBC7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1FA0-CC9F-4E9D-A308-5CF68C54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A9D0-7817-415B-83D3-CCEC8B0C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F0F5-B77B-40E0-B376-EEED5F75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AA35-2C06-40C9-88BD-F15C5C14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E5A8-DE9C-4735-AF9B-667CC85C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9370-26E2-473D-942D-D326E9E9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39688-DA2D-4FF7-8468-BC0EE6EA92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