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37205"/>
        <c:axId val="71701579"/>
      </c:barChart>
      <c:catAx>
        <c:axId val="80837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01579"/>
        <c:crosses val="autoZero"/>
        <c:auto val="1"/>
        <c:lblAlgn val="ctr"/>
        <c:lblOffset val="100"/>
        <c:noMultiLvlLbl val="0"/>
      </c:catAx>
      <c:valAx>
        <c:axId val="71701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37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CD8-69BC-486D-ABD8-7115B657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41A-4F3D-4053-BF73-D93A74AD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F1D-9116-494B-A5E1-B7C5488F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B0F-C4F4-4026-AEC7-D45D60C5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25C-6CB2-4E31-A1DB-3FF36FCC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B16-9CA2-432A-ABF9-61ADB6EC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464-D0A4-4A39-88DF-B47D4DDA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4DB-E4D4-4406-B14E-6D549787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494-14F4-4733-A4E4-A1502D8C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93E-7408-48AF-8D53-00F28718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2B0-2CD5-49BA-8FC4-43297FE0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438-9FF0-45C6-9C10-B5F4181E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C2769-24A4-4E55-A808-BC0268BD39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