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38137"/>
        <c:axId val="95425697"/>
      </c:barChart>
      <c:catAx>
        <c:axId val="68038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25697"/>
        <c:crosses val="autoZero"/>
        <c:auto val="1"/>
        <c:lblAlgn val="ctr"/>
        <c:lblOffset val="100"/>
        <c:noMultiLvlLbl val="0"/>
      </c:catAx>
      <c:valAx>
        <c:axId val="95425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8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E6E-3B5D-4509-8771-C38FF691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E93-F344-497A-AF63-678F185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120-A5AB-4208-A45F-CC117859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082-4043-4417-A118-70F1DB68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65E-B42A-40FF-8F84-2715CD6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877-DFC1-441C-A5CB-6C0A887E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F0D-0B08-4D6C-8B37-F5BA4DF0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F24-FD03-44EE-9A33-19524FD3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D82-8059-4294-A39C-4D64A7F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61F-EE8F-4BBB-B76F-01ACE80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8CF-7A65-40B5-BCEA-B8CCC5B7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14C-A806-4729-AEB2-0F66E14A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CD3E6-E967-4FFC-BD07-16F1D62FA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