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20880"/>
        <c:axId val="67490237"/>
      </c:barChart>
      <c:catAx>
        <c:axId val="83520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0237"/>
        <c:crosses val="autoZero"/>
        <c:auto val="1"/>
        <c:lblAlgn val="ctr"/>
        <c:lblOffset val="100"/>
        <c:noMultiLvlLbl val="0"/>
      </c:catAx>
      <c:valAx>
        <c:axId val="67490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0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EAA-4692-4E17-B20F-CB91BD8B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3B5-611A-4388-9DD5-D612279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515-94B9-47BC-925A-438B8C42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DAF-479D-46B6-B552-B5BD1B9D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64D-5414-478C-AD63-97CCA61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94A-252B-44EC-9D76-2E03CC7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999-0031-4598-A8C2-BE833AB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963-FBAE-4799-87DA-3A98B8B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160-C720-49F4-A3F1-23CAF8E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570-0A0A-4676-812C-FA0659D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42E-B0B3-4F59-BC36-B7F02DC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FA8-C648-4A1A-8F71-FDF6AF9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6FF38-DD0A-4DB2-98A2-9969B7CC0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