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79199"/>
        <c:axId val="24032606"/>
      </c:barChart>
      <c:catAx>
        <c:axId val="52679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32606"/>
        <c:crosses val="autoZero"/>
        <c:auto val="1"/>
        <c:lblAlgn val="ctr"/>
        <c:lblOffset val="100"/>
        <c:noMultiLvlLbl val="0"/>
      </c:catAx>
      <c:valAx>
        <c:axId val="24032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79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FD9-C26A-4B91-A070-D4D72B97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F95-1E86-4A0A-9799-FFFEDCED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AD5-B054-48F9-8186-629E45BE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A4E-F4E7-49ED-A541-81555FAA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A43-8935-4138-A2F5-9C4D23E7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5B3-B2D6-4F4B-BFD2-30816F4F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8F7-29CA-4C87-8EBC-A7D398A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8A8-C03E-4BE6-BC55-198264BE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1A4-AB7C-4213-A0AB-3A63DCF5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963-689A-4ED0-BD02-6847752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656-263A-4ADC-A1EE-5E720DD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78F-8529-4A11-94B5-A64284D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69F16-90A1-4926-8576-56801C80C7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