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92206"/>
        <c:axId val="40705655"/>
      </c:barChart>
      <c:catAx>
        <c:axId val="52492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05655"/>
        <c:crosses val="autoZero"/>
        <c:auto val="1"/>
        <c:lblAlgn val="ctr"/>
        <c:lblOffset val="100"/>
        <c:noMultiLvlLbl val="0"/>
      </c:catAx>
      <c:valAx>
        <c:axId val="40705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92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99C-1D64-4A5E-BBFA-ED29D2FC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115-4811-40F9-8F44-8FE38CA7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86F-381E-4EA0-82F3-BB190EE8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22F-C359-48FA-98B2-E1FA9516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A9F-4515-452D-9975-C97AFA58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49C-DCAD-4424-A2AC-FF4793BD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00A-D820-4065-8BC1-D76ED7CA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BBE-6C2A-49CD-9E4E-69515FAF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D63-F738-44BF-B285-F078000C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D4B-4D30-4F91-A247-F3D2699E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A77-FD91-4258-8E99-CBAB0E6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001-4077-40C8-9958-35ED45A7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E399F-DEEF-45BF-94EF-DAF4FF81D8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